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E6DD9-E855-4AB5-A821-05AFAA33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04190-6A6F-4519-AB90-B2BE0083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58B5-F1D1-4544-93A7-A0308348C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E1006-C0B4-4E9C-AACF-11D85FCB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5E1A-DE1F-4828-B5AE-0BCBFB43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3EBC-C74E-4A95-909C-D22852D0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C3B4-6395-474C-A95C-D37C29EC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84AE-ACE8-4D2C-B0DA-667BC530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3274-2F4A-4F21-81CA-0E205849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4FB3-01D5-489A-88D2-78013B3D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EEB2-F3EE-4869-830E-12AD1AA7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56E47-1F75-48FD-8E05-E7DC3C99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2676-8053-4B34-A47D-D98516BA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EEDA-8FE1-4525-9553-4B857FA6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058EB-11DB-4CBD-B877-76044F23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9E50-60BC-4A34-8B3E-DBA3E2D4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278C-62C5-4290-B5D5-0FDBB0E0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8317B-4D6C-446E-8737-5BB6A412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4B756-3CFC-43C7-9FE7-EC629C2A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3390A-CAF5-4F3C-BB30-3FDA3348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342ED-2802-4094-A65F-38DD0617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F08E8-2DF1-41C3-AC02-3F325CF1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FBCA6-B953-434D-ACD2-3D1CE75C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948D0-E0E8-4CD3-A0ED-B5AAADE7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F683-CE4E-4CB3-80C1-F3273C2176B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3A13-5EDF-4283-B2A5-FFF472E3F88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5e5ff"/>
                </a:solidFill>
                <a:latin typeface="Garamond"/>
              </a:rPr>
              <a:t>重症肌无力（</a:t>
            </a:r>
            <a:r>
              <a:rPr b="1" lang="zh-CN" sz="6000" spc="-1" strike="noStrike">
                <a:solidFill>
                  <a:srgbClr val="e5e5ff"/>
                </a:solidFill>
                <a:latin typeface="Garamond"/>
              </a:rPr>
              <a:t>MG</a:t>
            </a:r>
            <a:r>
              <a:rPr b="1" lang="zh-CN" sz="6000" spc="-1" strike="noStrike">
                <a:solidFill>
                  <a:srgbClr val="e5e5ff"/>
                </a:solidFill>
                <a:latin typeface="Garamond"/>
              </a:rPr>
              <a:t>）的化疗与放疗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长海医院神经内科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蒋建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（二）适用于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(1)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伴胸腺增生药物疗效不明显者，最好于发病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～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年内及早放疗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(2)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巨大或多个胸腺瘤无法手术，或作为术前准备治疗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）、恶性肿瘤术后追加放疗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（三）放疗的好处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不用开刀手术，可以使胸腺缩小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大部分患者有疗效（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88/134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，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66.7%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）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六、放疗有哪些副作用？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以前采用深部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X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光照射常有局部不适、胸前梗塞感、有的胸前皮肤发红，甚至发生浅表溃烂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自从釆用钴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60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及直线加速器照射后，局部皮肤完好，未再发生不良反应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胸腺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X-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刀治疗 ：定位更精确，副作用更少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血白细胞减少，脱发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一、化疗的原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二、哪些情况要进行化疗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三、化疗有哪些的方法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四、化疗有哪些副作用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五、放疗的原理、适应症、好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六、放疗有哪些副作用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一，化疗的原理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重症肌无力化疗的原理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⑴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重症肌无力是一种自身免疫性疾病，主要是由于抗体（抗乙酰胆碱受体抗体）所引起的，这种抗体使肌细胞膜上的乙酰胆碱受体破坏，从而出现肌无力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⑵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抗体是由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淋巴细胞产生的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⑶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化疗可以减少淋巴细胞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二、哪些情况要进行化疗？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糖皮质激素的副作用不能耐受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糖皮质激素疗效不好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手术疗效不好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中药疗效不好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放疗的效果也不好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病情重，难治性的病人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三、化疗有哪些的方法？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、环磷酰胺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⑴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累积大剂量疗法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：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危象持续很久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⑵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小剂量间歇疗法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：糖皮质激素、胸腺放疗或手术，疗效不佳的难治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患者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⑶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大剂量环磷酰胺免疫剝脱疗法。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联合化疗：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适用于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伴恶性胸腺瘤：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⑴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经血清免疫学捡测、纵隔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CT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扫描、或手术病理确诊，病情危重，药物疗效差的患者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⑵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胸腺瘤虽放射治疗或手术，反复出现危象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⑶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胸腺肿瘤复发或转移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硫唑嘌呤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：长期小剂量口服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环孢菌素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骁悉 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他克莫司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tacrolimus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FK-506)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四、化疗有哪些副作用？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抑制造血功能：引起白细胞降低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胃肠道副作用：食欲差、恶心、呕吐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脱发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膀胱出血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对未成年人可能会影响生殖细胞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五、放疗的原理、适应症和好处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（一）放射治疗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的原理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⑴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MG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是自身免疫病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⑵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胸腺是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淋巴细胞的中枢：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T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淋巴细胞产生、成熟的场所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⑶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、放疗可以使胸腺萎缩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4T14:14:48Z</dcterms:created>
  <dc:creator>微软用户</dc:creator>
  <dc:description/>
  <dc:language>en-US</dc:language>
  <cp:lastModifiedBy>微软用户</cp:lastModifiedBy>
  <dcterms:modified xsi:type="dcterms:W3CDTF">2014-10-24T15:45:18Z</dcterms:modified>
  <cp:revision>4</cp:revision>
  <dc:subject/>
  <dc:title>重症肌无力的化疗与放疗</dc:title>
</cp:coreProperties>
</file>